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1F0-F025-42ED-98FB-F1CED18B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8A8-D3A4-483C-B2A7-837652F3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780B7-E32B-478A-B5C4-0966A543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40AE3-4FA0-4CAA-8E83-F098C1AB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D50B9-5A9A-4F8F-8EFD-717A538F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E26AC-CFB2-46BA-85D5-BC310B2A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189D1-195F-46FE-8312-FD424336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A34C0-5B32-46DC-8E5A-2CCE7FA1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F8515-B767-4775-8943-2639BE30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8327B-27B5-4519-822B-58FD6051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79950-DE7A-4A48-9EA6-1007E495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E25C6-07C4-417C-9BA6-3A24E891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E16-97CA-43BD-89A7-FD6203D5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6F8EF-80A9-41A2-BDF1-CC9431BA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6DC65-3FAE-4265-BA18-A8F71E6B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46F38-3C05-4B1E-937B-D0E008CE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D2285-E06B-46BF-835A-BEA264CA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D9F2A-84EE-4A6D-8062-9E4D4927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A0372-19EA-4BDA-9B50-2D7ECA8C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316CE-87DE-4D28-87D1-F630BCAF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3FE72-332F-43C0-BE53-6E8E40B9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48312-BA69-4386-BEE1-1D8CB448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78B4D-A20E-48C5-AC30-22192CC4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4B6-DAF9-4939-A130-75FD77CB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D344A-F4C5-4EDE-8F39-9DF672B9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0AE1C-FAF9-4F58-BF75-BB773DF4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3F282-467B-4B64-8C35-B31D6956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58F3A-D02E-4D6E-A76A-FA2A85EB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CDCD0-8518-44C3-8788-B6B4DA57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863F3-CE07-46DB-A385-BE6BC653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04DED-1E29-47E2-B8C4-EE609450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7698C-929D-4DC0-867F-0EB4C2F1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7ECA8-D399-40EE-BB95-FF677C88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CDF7A-9569-41F8-8F94-83407948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B190-1B10-4C77-B73F-ED426C1C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452B8-EE72-4539-8EBE-EB5BBDA8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991D5-FE20-4CA5-B9F3-8816766A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A925A-1EFD-476F-918E-2984C12C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56294-A678-4616-A70B-D1146886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0C02D-FD34-4237-A22C-751E6D31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064A6-D750-41DF-B02D-FE58B9A4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8395D-7DD0-48AA-B291-209D17BF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EC9B5-B1B2-4F49-9E76-6F1160CE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AC65A-A4E1-4CA4-84F3-67561288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AB7A7-2BB5-439A-A837-28A7C1F2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4CE1-B8E8-476D-A2E5-A500D48E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CBF54-4D28-4615-B11A-72EDD150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1420F-F0F8-4D0B-AFC7-6348013D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298CC-873F-4C41-9EE7-3EB87C6D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74191-9E5A-44BB-AF64-C05C09C9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07098-F28F-4645-AF57-0B9F6484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371B-BDD0-4DB8-900B-464E894C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902F-9A70-426F-9906-75BB74E3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7AB5-F6FC-43B2-8296-41DF2067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B77C-9110-4195-82C9-A2AC706E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BC20-A0E5-403B-8156-6924F1BA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8EB-B1AC-4C5E-959E-4E7725E8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7D5B-B62E-419E-B549-A8E304AC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C869-AC2B-49E1-886F-3F3A8D61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F58D-5D4C-4098-A7C5-4FDE2776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86A6-0AA3-4903-A85B-B2A91606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EB48-885C-45E1-BB0F-5A7F62C5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444A7-FD19-449D-922A-26B53C29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CCCA4-4961-4759-B6EC-4AFA908D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B5154-EDEB-4CCD-9E44-51236F09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1363-272A-4BDF-8C5D-C340E0A9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22EFB-ABB8-4347-B214-219E0478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5D7E-0885-496A-9CE5-86958A4D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969D3-39B7-426E-96A1-84F4B0D4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D004-D949-4145-860E-191E90D6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F0F0-E30A-4B9B-BA90-7918DBC6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8AD4-7216-4BA9-833A-EF2519F1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F0AE5-5F48-459D-B082-DCE70581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96BC6-EAF3-4B1F-904A-7942A614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0B4F-14C1-4A95-A79B-DF790765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E9B25-0FFC-48EF-AB40-C7206494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B8E57-843B-4E1C-893F-9F8C0391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CE424-49EF-459E-BE06-57326062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1ED-529A-464E-8056-4BE68F20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5A5F0-29B9-4FFF-8173-B1A9B0C6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E566E-31F9-405B-8D07-156603FA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3D39D-A709-4FDA-8EF1-1B98FAA5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D3205-E2AC-4A89-B14E-2B1BC43B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524DA-C552-46D1-8678-D6F41291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F4F80-335E-4C93-937D-1038C520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F4005-DF77-4C4A-B0CA-E8F5F065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A24FA-95D1-4F6A-A68B-15C46AF3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6BD80-FFE5-427F-BE56-82F119F9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63C27-4168-4EC3-AE8F-D517CA8A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A68-11BB-427F-8BA6-5163FF9F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B0D26-2651-492B-BB8D-0E98472D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9B448-C31F-4306-975A-603100F1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5A426-8DB6-43C6-A2F5-7ADCF2EA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BBB33-4A7E-4E90-8CEB-E8C60E86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6F2C7-151A-4F7F-A72F-E9ADB2DB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85632-E333-49B2-B2BE-0AA59496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F390D-F2EA-48C6-AFA1-AA46825A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BA34B-4FDE-4668-9B40-3BAF6BF6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B34AB-2353-4ABE-BC2C-7ED516B2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F335E-785A-4ED2-B7E5-2F390AE1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C6A-EAA5-436B-BBA1-31927229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F9836-C375-4A99-985B-0E2782C5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E7208-D952-418F-B601-7BAB63B8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C8237-522E-479C-B8D9-210BA180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24D34-B94E-447C-BC5C-7B6B1146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31E1E-5654-4728-9196-25E15614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2030A-140D-46A0-9473-A0E21DA1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BDBA6-5459-42C4-BD6F-12AD43DD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48D9E-87E6-4E69-9221-76AC3820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37109-06D9-4F5A-AF12-02F3354D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71A93-7872-48CB-9451-980812D3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644-EDBE-42F8-B902-D6C28C1E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7E65E-4A07-498E-A3CC-73020FE3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5885B-D29E-48D9-8370-78CECFA2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CD061-6DAE-4F5F-B53F-C9F34A24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CA0C6-E5B4-4A1E-A719-2C555403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2E23E-AFAE-437E-9935-4D1B7A03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A4FC3-019B-4198-A938-AF6614B4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5943E-2A2E-4A95-B782-BECCE0E6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5D293-D382-45A5-8C3D-EE8F7A12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AAFFD-484F-4F6C-8330-B18E520C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457D7-B488-4828-BD8B-96F1609A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591-60F0-4224-B613-ABB9FEC0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AF26F-BE46-4ADE-8B0E-CC084525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17716-5F45-4BD9-B9C8-F001ABB0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249B2-A516-4BBD-8A44-86779FEA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6082D-15B5-4A8C-B3F5-77BE9A26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4445D-D07C-4ECF-A885-5C0CA29F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DDDE9-D0A4-4806-9B26-F7836A44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98664-B098-4C87-B234-8E4AA6B8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5D454-EE11-4AA8-AD95-EE7943A3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73DF6-A998-47ED-BBE5-0FCC25AB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8D190-A0E1-4B89-AFE9-799E8B76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9C8-4E29-4674-954D-E5B9268B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319D0-C887-4DF9-BA6B-46362843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DCF0A-61D9-4B4F-AEB1-43B4AA95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7C1BA-FF79-405B-A9E3-EFBB3F77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F6D2F-9721-4DD1-A944-C0F2C34A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EF965-F50B-455F-9829-6741FC58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C9D5B-F4E1-4A8E-8F29-24E168F7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77B48-F397-4E98-BAFD-896C9257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88019-BFA8-4EDB-B6CA-32508275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7A618-6F3A-45D0-9A51-435CF0B8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C581A-AED7-4A3B-9524-97960AF6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EF25-7697-44CE-8A97-8A8780A7F4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BE0F-4984-402C-BF31-440ADDB8B7C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3E69-8A60-4BC9-96C2-8E7C7005FA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BC0C-C18C-4263-B884-63D179A18F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9857-E7CF-4D80-B83E-4D472ADCFB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A3C7-A1B8-4CBD-894D-5662A1A721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7A25-50B7-444D-8DDA-4BAC09D7B21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6A85-4ABC-4BBF-8C76-DEC34B395FE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6AA0-72D8-4C76-9453-429C03D68B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2E67-8085-4A29-A1DE-633FA0BD858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ABF4-B86F-4823-971E-C531BDEC7C2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CF37-8AC1-42BF-93CB-328750E762C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72 Ot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 v nebi, deti tvoj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tče v nebi, deti tvo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kláňajú sa pr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teb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vály, vďaky, prosby svo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ysielajú s pokorou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revádzaj nás milosť tvo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v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nad nami tvoja tvár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aruj hojnú nebies vlah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ucha svojho mocný prú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ehnaj každú dobrú snah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lebom z neba sýť svoj ľ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revádzaj nás milosť tvo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v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nad nami tvoja tvár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zácne zrno svojho Sl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ám ráč do sŕdc zasie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by cirkev Ježiš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mohla rá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a prekvit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revádzaj nás milosť tvo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v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nad nami tvoja tvár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8:01:48Z</dcterms:modified>
  <cp:revision>24</cp:revision>
  <dc:subject/>
  <dc:title>Je veľký náš Pán, on slávy je Kráľ Nech do všetkých strán  spev vrúcnych znie chvál.</dc:title>
</cp:coreProperties>
</file>